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0970-34F0-4286-92B6-4DB77868F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3A94-978D-42DD-8CE2-550B28439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C971-FC95-4652-9B1B-B0611D379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FF65-FCAB-4308-B85C-713C1734D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5BD7-6344-4442-8C8D-AB3828990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AB31-648F-49C8-9DC1-703BE78D1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44EE-E665-4468-A737-4EA977C7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60F3-9696-439F-A9F8-780224C7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711F-0B54-4EA7-BC03-C148EB310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A5AE-B43F-4845-B8DE-14D18F162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3DE5-4DE5-46B8-A56B-EE200AF46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59C2-5C20-4228-8861-CF87A326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EAC1-DEE8-4AA3-B6D9-441A0F88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B1CB-A6BC-47F8-96E0-1D4CE623C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028A-4CF8-4811-AA51-64576395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119F-FB0E-4EF7-BEF0-66678A78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A6D-1E30-49EB-B81D-A6D3531F0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1A0E-6FF3-4396-919B-0C0D0AD6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F449-90BF-4158-8C1A-6749BBDEA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394F-057F-47D5-9056-27C5795EB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FA2C-06D4-411E-91A6-1AF7CE098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8CD3-5723-460C-9672-93830D4B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5DA4-01A3-4338-8FE9-89E56FC85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11F7-148D-419B-AD56-0A138879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706-CEAA-4EF2-ACBA-6D61BA9C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532-FAF1-43A4-AB2A-E43E3E02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E06-C06F-4424-A2F7-EAA33F71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1B5-036D-4548-BCED-37DBBC9C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C35F-5FEF-4AF8-9DFE-2A147901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C1C3-FB4F-4FED-82C5-2D9103CE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5172-2D13-49B7-B436-2CA8F653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012E-E853-480A-8288-33E5671D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40FB-D4B1-4D7F-A914-E23062C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AD4E-C672-4A62-8A5E-C26E6C17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A66E-AC56-4CBF-A994-7F28BD9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BA8-4BAB-4040-8DD9-BC93A069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5DF0-AD25-47A8-8773-89D98F8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7FB0-865F-4DC2-B4F1-E573B978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AE15-8F34-4791-9479-3ACA7F2F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7647-A720-4907-8B04-6CB537A2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4931-04D9-464C-898C-B410585F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3E089-FAD9-42DA-A404-7902D259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7730-8E88-4C8E-8FF7-E99567AB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4402-D1E8-4AEB-AC47-2C094A9C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ACDA-D4ED-4FF5-9397-CC879817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D90B-FB1A-4550-A8AE-6EDF888F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44E-3FEB-4B1D-9FB1-812B6EF6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58EE-C0BB-46F0-95AE-94CEB1AE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B449A-F11F-47B5-92D3-879CE613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F054-EB70-4256-9F3E-1623AE6C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B39F-8397-48F1-8C0B-99326AE4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48BE-EA78-479B-BACE-606FED47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AD95-7D04-48BE-8F09-4C690E39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C16E-41B0-4A7C-9ADF-45E3708D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F82-C279-4E10-B30B-51128822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FFC-0BF9-4933-AAFD-3074A513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891-B1EE-4EE2-987E-03CF5150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4C8-9212-4677-B2C5-CE9C2BB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8C0-385A-4258-A6BB-EAB5FE5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731-6786-43D1-BD66-280004E7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15F0-1340-485E-B1A3-29CEB6233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4167-06E5-4BB3-B8ED-B989E486CC3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E72D-E0BE-4D79-B839-4C4082DF975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50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6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22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2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eroglyphic for 'a' was used only in the beginning of words (where a syllabic 'a' might occur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4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1-17T17:59:50Z</dcterms:modified>
  <cp:revision>20</cp:revision>
  <dc:subject/>
  <dc:title>Slide 1</dc:title>
</cp:coreProperties>
</file>